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B38-292F-43A5-90C7-6D4D7B26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375-9678-4D9A-8328-D21DB552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886-1510-4C51-8A52-F39A9333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744-76C5-475C-B656-02B093D9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9D3-BF1C-45D2-B1C8-660D1BB0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F89-1EB7-4A2E-96BC-C4EF68DB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7B81-2C88-4962-B1A3-F947ADBF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B81-D262-4D16-96A7-E23CDA73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AEF-B737-45C7-AAFA-AB33D0E5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4CE-F52E-4F10-8EA5-1828D01C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C86-7702-401F-A919-F7993817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B2D-179B-447D-9C74-20A082C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3213-22B5-4981-B4F5-B8E76F00C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36232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0560" y="2009880"/>
            <a:ext cx="3054240" cy="370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8134200" cy="1068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196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371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int:  Trust and use the 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2733840"/>
            <a:ext cx="3533760" cy="30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14800" y="2225520"/>
            <a:ext cx="4343400" cy="4052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8334360" cy="1105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14400" y="4572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instructions and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80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990720" y="444600"/>
          <a:ext cx="526392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44600"/>
                    <a:ext cx="526392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3"/>
          <a:srcRect l="0" t="0" r="0" b="31218"/>
          <a:stretch/>
        </p:blipFill>
        <p:spPr>
          <a:xfrm>
            <a:off x="157320" y="1143000"/>
            <a:ext cx="8986680" cy="1447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380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9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534160" cy="2886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14400" y="1522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each graph given is an even function, an odd function, or a function that is neither even nor od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33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4464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10280" y="4464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4464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29640" cy="1616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533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162920" cy="4541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380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s the function increa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501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162920" cy="4541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457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s the function decrea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80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162920" cy="454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4400" y="457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s the function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80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1149480"/>
            <a:ext cx="5257800" cy="3319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04920" y="4807080"/>
            <a:ext cx="8686800" cy="48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5535720"/>
            <a:ext cx="4343400" cy="407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4572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 the 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80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5197320"/>
            <a:ext cx="8076960" cy="365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5911920"/>
            <a:ext cx="4647960" cy="38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990720" y="1295280"/>
            <a:ext cx="6019560" cy="3800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14400" y="4572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...continued) Answer the 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0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1401840"/>
            <a:ext cx="5867280" cy="3703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280" y="5438880"/>
            <a:ext cx="8915400" cy="581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14400" y="4572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...continued) Answer the following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80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9T05:26:00Z</dcterms:modified>
  <cp:revision>8</cp:revision>
  <dc:subject/>
  <dc:title>Slide 1</dc:title>
</cp:coreProperties>
</file>